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B02-0B3A-41FC-8738-DD48BBB5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DB2-143A-44D3-B3BB-09DDE9E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C47-D35E-4643-A2AE-1CAF2209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2B3-0902-488E-B450-70C80CEB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76D-FE35-41A4-B176-EF30DC3E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C441-B5E1-470B-900D-5A2361AD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205-60BD-4B8B-8414-EA710A17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6C49-DA19-4A74-B2B3-C3A98CAA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A2F-457F-4D45-BEE8-CE214D4B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06F-277B-4507-B6C5-602A74A7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5C4-40E2-4DF4-86CB-071D659F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59C-7EC6-4F0A-98DC-C9837E6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5C24-D5BD-4691-AD37-593AF10D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7560" y="76212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0" y="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6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7480" y="2057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la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1240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80360" y="31240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" y="4381560"/>
            <a:ext cx="16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438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32640" y="3989520"/>
            <a:ext cx="220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ed by a surpris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Org change, Technology change, or busin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1" idx="2"/>
            <a:endCxn id="43" idx="0"/>
          </p:cNvCxnSpPr>
          <p:nvPr/>
        </p:nvCxnSpPr>
        <p:spPr>
          <a:xfrm flipH="1">
            <a:off x="1801440" y="1221840"/>
            <a:ext cx="2556360" cy="75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1" idx="2"/>
            <a:endCxn id="44" idx="0"/>
          </p:cNvCxnSpPr>
          <p:nvPr/>
        </p:nvCxnSpPr>
        <p:spPr>
          <a:xfrm>
            <a:off x="4357440" y="1221840"/>
            <a:ext cx="18896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3" idx="2"/>
            <a:endCxn id="46" idx="0"/>
          </p:cNvCxnSpPr>
          <p:nvPr/>
        </p:nvCxnSpPr>
        <p:spPr>
          <a:xfrm>
            <a:off x="1801440" y="2440800"/>
            <a:ext cx="72000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2"/>
            <a:endCxn id="45" idx="0"/>
          </p:cNvCxnSpPr>
          <p:nvPr/>
        </p:nvCxnSpPr>
        <p:spPr>
          <a:xfrm flipH="1">
            <a:off x="980280" y="2440800"/>
            <a:ext cx="821520" cy="6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6" idx="2"/>
            <a:endCxn id="47" idx="0"/>
          </p:cNvCxnSpPr>
          <p:nvPr/>
        </p:nvCxnSpPr>
        <p:spPr>
          <a:xfrm flipH="1">
            <a:off x="1360800" y="3583800"/>
            <a:ext cx="11606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6" idx="2"/>
            <a:endCxn id="48" idx="0"/>
          </p:cNvCxnSpPr>
          <p:nvPr/>
        </p:nvCxnSpPr>
        <p:spPr>
          <a:xfrm>
            <a:off x="2521080" y="3583800"/>
            <a:ext cx="984240" cy="79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895480" y="4800600"/>
            <a:ext cx="2210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completing a set of deliver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end of phase or mile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4480" y="4876920"/>
            <a:ext cx="218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ined by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weekly, 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4" idx="2"/>
            <a:endCxn id="58" idx="0"/>
          </p:cNvCxnSpPr>
          <p:nvPr/>
        </p:nvCxnSpPr>
        <p:spPr>
          <a:xfrm>
            <a:off x="6246720" y="2517120"/>
            <a:ext cx="34488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56960" y="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 Types on a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8080" y="1522440"/>
            <a:ext cx="5979960" cy="255600"/>
            <a:chOff x="1378080" y="1522440"/>
            <a:chExt cx="5979960" cy="255600"/>
          </a:xfrm>
        </p:grpSpPr>
        <p:sp>
          <p:nvSpPr>
            <p:cNvPr id="62" name=""/>
            <p:cNvSpPr/>
            <p:nvPr/>
          </p:nvSpPr>
          <p:spPr>
            <a:xfrm>
              <a:off x="15670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352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034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168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402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084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784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466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148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30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516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124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98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580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62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944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8644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326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0080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693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75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07560" y="152244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78080" y="1650960"/>
              <a:ext cx="59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465120" y="679320"/>
            <a:ext cx="915840" cy="608040"/>
          </a:xfrm>
          <a:prstGeom prst="wedgeRectCallout">
            <a:avLst>
              <a:gd name="adj1" fmla="val 46185"/>
              <a:gd name="adj2" fmla="val 97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18320" y="590400"/>
            <a:ext cx="916200" cy="608040"/>
          </a:xfrm>
          <a:prstGeom prst="wedgeRectCallout">
            <a:avLst>
              <a:gd name="adj1" fmla="val -71662"/>
              <a:gd name="adj2" fmla="val 119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600" y="17683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8264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3644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016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0680" y="1630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07120" y="1768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263680" y="11088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360600" y="11088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457880" y="111060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83160" y="1110600"/>
            <a:ext cx="20808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566040" y="111060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8080" y="2860560"/>
            <a:ext cx="5979960" cy="255600"/>
            <a:chOff x="1378080" y="2860560"/>
            <a:chExt cx="5979960" cy="255600"/>
          </a:xfrm>
        </p:grpSpPr>
        <p:sp>
          <p:nvSpPr>
            <p:cNvPr id="99" name=""/>
            <p:cNvSpPr/>
            <p:nvPr/>
          </p:nvSpPr>
          <p:spPr>
            <a:xfrm>
              <a:off x="15670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034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7168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402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084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784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466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48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830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16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124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898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580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262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944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44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26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693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75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7560" y="2860560"/>
              <a:ext cx="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8080" y="2989080"/>
              <a:ext cx="597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5120" y="2017800"/>
            <a:ext cx="915840" cy="608040"/>
          </a:xfrm>
          <a:prstGeom prst="wedgeRectCallout">
            <a:avLst>
              <a:gd name="adj1" fmla="val 44800"/>
              <a:gd name="adj2" fmla="val 10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8320" y="2063880"/>
            <a:ext cx="916200" cy="608040"/>
          </a:xfrm>
          <a:prstGeom prst="wedgeRectCallout">
            <a:avLst>
              <a:gd name="adj1" fmla="val -89513"/>
              <a:gd name="adj2" fmla="val 7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ject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600" y="310680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ek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264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3644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7016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0680" y="2968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07120" y="3106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0960" y="3177360"/>
            <a:ext cx="20808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3160080"/>
            <a:ext cx="20772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033960" y="3161520"/>
            <a:ext cx="20808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845400" y="3145680"/>
            <a:ext cx="207720" cy="39060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120" y="3425760"/>
            <a:ext cx="14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ase or Miles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5640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355280" y="35640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962680" y="3564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775560" y="3564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4880" y="4191120"/>
            <a:ext cx="80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te: Phases, milestones, etc should have been named and completion criteria should have been defined in the project plan or some other controlling doc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605720" y="143748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443720" y="285192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113440" y="3116160"/>
            <a:ext cx="642960" cy="525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597040" y="1017000"/>
            <a:ext cx="642960" cy="5252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0" y="4965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47960" y="5211720"/>
            <a:ext cx="21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planned R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864400"/>
            <a:ext cx="182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te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qually spaced (e.g. month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6920" y="5928480"/>
            <a:ext cx="207720" cy="39060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103480" y="5923080"/>
            <a:ext cx="208080" cy="390240"/>
          </a:xfrm>
          <a:prstGeom prst="diamond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106880" y="5938200"/>
            <a:ext cx="401760" cy="390600"/>
          </a:xfrm>
          <a:prstGeom prst="star5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5765760"/>
            <a:ext cx="642960" cy="525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01840" y="5854680"/>
            <a:ext cx="182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lestone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19440" y="5738760"/>
            <a:ext cx="182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ly after the end of th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0440" y="5575320"/>
            <a:ext cx="182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ecial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  -- Whenever the trigger event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82960" y="5257800"/>
            <a:ext cx="185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nned R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5605560"/>
            <a:ext cx="5665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329520" y="5595840"/>
            <a:ext cx="24127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0:00:52Z</dcterms:created>
  <dc:creator>JERRYD</dc:creator>
  <dc:description/>
  <dc:language>en-US</dc:language>
  <cp:lastModifiedBy>JERRYD</cp:lastModifiedBy>
  <dcterms:modified xsi:type="dcterms:W3CDTF">2003-04-29T01:49:05Z</dcterms:modified>
  <cp:revision>4</cp:revision>
  <dc:subject/>
  <dc:title>PowerPoint Presentation</dc:title>
</cp:coreProperties>
</file>